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1CB9-C408-4721-A12B-896EAAAC1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B58D-AA10-4206-8EDA-F53D8207D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7029-DAD3-40FC-AF3E-1B59815E1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DCE3-07C1-4427-BF92-6212348B30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06FA-5E2D-4410-B4E0-0D1EC73A6C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3BD9-51AC-4A08-8873-3772CF35F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E7CC-1EA3-46F4-B4CA-300C7F1D9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71E3-170C-46B5-ADB8-36640A634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A6F3-9F2D-411B-8ED3-60DE3CDD3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FE92-1D2A-48FF-9CB7-72C3DDFA8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DE83-CAC7-40AB-BDAC-47F7F3B1A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D198-2DBB-4313-BA95-77763180D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8-</a:t>
            </a:r>
            <a:fld id="{84456B65-12C9-4CAF-BD4C-EB78D92855CA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1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We will move along the elements of A. For each new element we will compare the element with the current element of B. If they match, we will traverse A and B until we find a new element in A and a new element in B accordingly. If the elements are the same w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the previous step until the end of the lists. Else we report that the lists do not have the same set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 above algorithm is O(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B180-0ED3-4496-90DA-5F6073249DD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2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ine linearly all the elements a of A. For each element a, perform a binary search in the elements of B looking for an element b such that b=m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2(m,A,B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oreach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=binarysearch(m-a, B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if (found(b)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%d + %d = %d”, a,b,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element was not found in b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D93D-8C84-40FE-B0D6-25C868BF693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DZ</cp:lastModifiedBy>
  <dcterms:modified xsi:type="dcterms:W3CDTF">2006-10-29T07:24:04Z</dcterms:modified>
  <cp:revision>347</cp:revision>
  <dc:subject/>
  <dc:title>l</dc:title>
</cp:coreProperties>
</file>